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ED89-4FF6-483D-86A0-8CAD26DB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6063-3168-4221-9497-24FF5257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7361-6E5D-4D0E-9DB9-748D1FBE6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0FAA-2DFC-43FE-948E-5DFFD2A74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E027-9E94-4928-9EC8-AECC26D9B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2E0D-717D-4542-9358-C704E3EA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F83D-ACD8-47B6-9D1B-F5B796BF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8456-1BA9-4166-8149-618927DD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C963-F09A-4323-8C2D-57B4952E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E3F4-2965-4421-8B53-19B286B1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3967-CA78-42B0-86DD-4982726C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091E-8CA1-4844-A70B-3F761F27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D8B8-FC67-4989-810A-E459D9A4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38CC-62E5-4AFA-8DD0-F8FC5B00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E87B-6CB6-4760-8872-5A5A3EA3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8639-0B2F-42AB-88F2-2DD38F058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B12D-3198-486E-B932-51E54BC68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4AC7-B3A7-4EE5-BB98-13DC1377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ED36-2C44-43D0-9A27-6783FA28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1AD8-3FF3-48E8-9BB8-C8BACF2B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8E64-742D-4CDE-955C-AD55E879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3D86-69D8-49C2-AF33-69B262D8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007C-42DA-4001-8128-71BD7E00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58AC-768B-40EF-AAF2-D7ADC589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7315200" y="5510160"/>
            <a:ext cx="1828800" cy="13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7BA3-C03F-49A0-BBA6-AF0788B61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440" y="2967120"/>
            <a:ext cx="802656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47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0AC9-EA12-4426-BCFD-FDB0FD9F9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sourceforge.net/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5640" y="914400"/>
            <a:ext cx="609588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GBrowse: Generic Genome Browser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ay 2003 Updat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incoln Stein, CSH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08080"/>
                </a:solidFill>
                <a:latin typeface="comic"/>
              </a:rPr>
              <a:t>Coming real soon now</a:t>
            </a:r>
            <a:endParaRPr b="0" lang="en-US" sz="8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Synteny Browser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1726" t="26410" r="2073" b="11776"/>
          <a:stretch/>
        </p:blipFill>
        <p:spPr>
          <a:xfrm>
            <a:off x="228600" y="1752480"/>
            <a:ext cx="8769240" cy="4392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rcRect l="2350" t="15911" r="4024" b="9518"/>
          <a:stretch/>
        </p:blipFill>
        <p:spPr>
          <a:xfrm>
            <a:off x="380880" y="1523880"/>
            <a:ext cx="8534520" cy="5334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Feature Filtering &amp; Coloring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ltering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imit feature displays to those matching selected attributes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loring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olor background of features matching selected attributes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Remote Annotation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ull DAS Suppor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ultiple databases merged into one display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ultiple database types merged onto display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oca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emot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lat fil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elationa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redits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50040" y="1523880"/>
            <a:ext cx="233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CSH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huly Av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cott C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98640" y="2895480"/>
            <a:ext cx="257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BDG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hris Mung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hengQiang Sh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7720" y="5938920"/>
            <a:ext cx="1523880" cy="536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071520" y="5973840"/>
            <a:ext cx="43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stellar"/>
              </a:rPr>
              <a:t>http://www.gmod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1523880"/>
            <a:ext cx="223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Paul Edelfs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Robert Hub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92880" y="4375080"/>
            <a:ext cx="237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HGMP-RC Fug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hawn Ho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86520" y="2927520"/>
            <a:ext cx="22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Else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Marc Colis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Marc Logg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08080"/>
                </a:solidFill>
                <a:latin typeface="comic"/>
              </a:rPr>
              <a:t>New Features</a:t>
            </a:r>
            <a:endParaRPr b="0" lang="en-US" sz="8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Database Adaptors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io::DB::GFF Schem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MySQ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ostgreSQ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racl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ext fil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hado Schem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ostgreSQ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ioSQL Schem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MySQ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MBL Prox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Multiple Alignment Display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2056" t="20835" r="2941" b="14584"/>
          <a:stretch/>
        </p:blipFill>
        <p:spPr>
          <a:xfrm>
            <a:off x="685800" y="1676520"/>
            <a:ext cx="8153280" cy="4724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rcRect l="2056" t="17742" r="2056" b="18819"/>
          <a:stretch/>
        </p:blipFill>
        <p:spPr>
          <a:xfrm>
            <a:off x="685800" y="167652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rcRect l="2056" t="17742" r="2941" b="12367"/>
          <a:stretch/>
        </p:blipFill>
        <p:spPr>
          <a:xfrm>
            <a:off x="685800" y="1676520"/>
            <a:ext cx="8153280" cy="4952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Histograms &amp; XY Plots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620120" cy="2466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nfigurable Overview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945" t="28889" r="2830" b="13638"/>
          <a:stretch/>
        </p:blipFill>
        <p:spPr>
          <a:xfrm>
            <a:off x="609480" y="1905120"/>
            <a:ext cx="7772400" cy="3733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Flip Coordinates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2405" t="28555" r="2752" b="24645"/>
          <a:stretch/>
        </p:blipFill>
        <p:spPr>
          <a:xfrm>
            <a:off x="233280" y="1897200"/>
            <a:ext cx="8645760" cy="3342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2334" t="31069" r="2910" b="19112"/>
          <a:stretch/>
        </p:blipFill>
        <p:spPr>
          <a:xfrm>
            <a:off x="228600" y="1905120"/>
            <a:ext cx="8637480" cy="3558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Plugin Layer for Gene Predictors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2941" t="17742" r="3831" b="13444"/>
          <a:stretch/>
        </p:blipFill>
        <p:spPr>
          <a:xfrm>
            <a:off x="762120" y="1600200"/>
            <a:ext cx="8001000" cy="4876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Lots of New Glyphs</a:t>
            </a: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plice acceptor/donor glyph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icroarray red/green box glyph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ytogenetic band glyph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X/Y graph glyph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Authorized User</dc:creator>
  <dc:description/>
  <dc:language>en-US</dc:language>
  <cp:lastModifiedBy>Lincoln Stein</cp:lastModifiedBy>
  <cp:lastPrinted>1998-10-28T21:29:29Z</cp:lastPrinted>
  <dcterms:modified xsi:type="dcterms:W3CDTF">2003-05-06T11:16:38Z</dcterms:modified>
  <cp:revision>534</cp:revision>
  <dc:subject/>
  <dc:title>Training</dc:title>
</cp:coreProperties>
</file>